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99911"/>
        <c:axId val="77208726"/>
      </c:barChart>
      <c:catAx>
        <c:axId val="29399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08726"/>
        <c:crosses val="autoZero"/>
        <c:auto val="1"/>
        <c:lblAlgn val="ctr"/>
        <c:lblOffset val="100"/>
        <c:noMultiLvlLbl val="0"/>
      </c:catAx>
      <c:valAx>
        <c:axId val="77208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99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7D6-A460-4697-88E1-0E609393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ABB-68D1-4514-807A-E8F9BB4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346-3F4F-447A-8DFD-15FBE2EB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8B5-1581-4148-955F-47924336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8F2-2C81-4560-8DDF-275ADB6D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48E-FC82-46F3-9A5D-FF59589B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99B-4AD1-4957-BB97-325A3AD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B8B-1E64-4004-BAE8-D9AB6C6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97C-0628-480E-BF95-DBD6C02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94F-78A6-47ED-929C-8C5835E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4C5-6117-4C13-9211-F878CD9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D46-169C-4E71-8BBB-CB26CD2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500E-A330-4C8A-B45A-00EF8CDAE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