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62001"/>
        <c:axId val="75284746"/>
      </c:barChart>
      <c:catAx>
        <c:axId val="16362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84746"/>
        <c:crosses val="autoZero"/>
        <c:auto val="1"/>
        <c:lblAlgn val="ctr"/>
        <c:lblOffset val="100"/>
        <c:noMultiLvlLbl val="0"/>
      </c:catAx>
      <c:valAx>
        <c:axId val="75284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62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513-A687-49B4-A8E6-6579B839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461-1195-4BB1-A746-7FC7F7BA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ADB-543B-4CC9-AB6C-4DD3C600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34E-B8F6-44DB-8AD4-498D7DA4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D71-3D22-4E70-8529-6325A521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5B0-3B4B-40C1-8412-CA0DBF40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33F-4181-4F61-AF6B-A8A1A49C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D6B-41AC-475B-B679-8BC9B22C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49B-A51E-4D1C-A7EB-CA394C48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E46-B3BD-437E-958E-099D2FDA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CAD-17C3-47E6-9928-F6150934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C1C-0E81-4229-B610-5C0F505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37AA0-FCFF-4B04-AF85-35DD58751C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