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65528"/>
        <c:axId val="80169577"/>
      </c:barChart>
      <c:catAx>
        <c:axId val="890655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69577"/>
        <c:crosses val="autoZero"/>
        <c:auto val="1"/>
        <c:lblAlgn val="ctr"/>
        <c:lblOffset val="100"/>
        <c:noMultiLvlLbl val="0"/>
      </c:catAx>
      <c:valAx>
        <c:axId val="801695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655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406-52B3-4C30-9DC9-4CF18C06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13D-7A97-47E2-AFA4-96C3E970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241B-C77C-4ED1-8DAA-F4E95223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C52B-EA55-4CE9-9C65-22D6D2E6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0A7-1554-431A-9173-F836E3A0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FB5-1D7A-4D93-B93C-111F48F0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DFDC-37CA-4537-BDA7-D5BA9F1F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CE3-C0CA-4405-98E6-95DE7551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DD69-73D3-46E4-A92B-91BE6735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A2E-9674-4E86-805D-8252DB66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917-5643-4D92-90FF-E841AF58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5293-A048-4567-AC9C-60FC90D1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5FD11-2A04-44EC-8B88-AA298DEBCC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