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9888308"/>
        <c:axId val="15588767"/>
      </c:barChart>
      <c:catAx>
        <c:axId val="298883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5588767"/>
        <c:crosses val="autoZero"/>
        <c:auto val="1"/>
        <c:lblAlgn val="ctr"/>
        <c:lblOffset val="100"/>
        <c:noMultiLvlLbl val="0"/>
      </c:catAx>
      <c:valAx>
        <c:axId val="155887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8883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555A4-6320-4080-82A5-BAB5BFCC2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C729E-8A8F-48E1-80AA-F1BD00906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D017-81F6-4615-8980-9DDE76D33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72AA7-90B6-46CE-9D92-8099CECF08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CB7C-BBFE-4296-817E-E569195A2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82EDE-1DBE-4E58-97ED-40CF8BD53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08F0-A003-40F0-BFDB-DA2AE3FB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DDD-1230-4505-A534-188B5C300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565E4-F9CB-4662-A059-338202C49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01D58-327D-4DC0-9D18-EDB4CDED6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27E9-4EA4-4F07-937B-B0C448AD4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FE80-5A43-4BF7-9345-A648CBC9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FE690E-EACE-45EB-AE64-2396921FD5D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