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7273"/>
        <c:axId val="60977262"/>
      </c:barChart>
      <c:catAx>
        <c:axId val="1727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7262"/>
        <c:crosses val="autoZero"/>
        <c:auto val="1"/>
        <c:lblAlgn val="ctr"/>
        <c:lblOffset val="100"/>
        <c:noMultiLvlLbl val="0"/>
      </c:catAx>
      <c:valAx>
        <c:axId val="60977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7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CB4-F1AA-454A-9505-2CFB7153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DD3-19E7-4631-9825-7D3E5FF8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3A9-3C31-44F2-969F-A050A12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EFC-3909-4619-BE89-49C8732F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7A1-976C-4773-8A7C-1A2E0BD7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A86-64D4-441F-99DF-97979F50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710-8A6A-48C0-837E-A17D28CE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6FE-FBF3-4FC6-9EA9-01AF8C09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9A2-98F1-475D-87EA-BD5FB47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162-AB9B-4F6B-AE49-12A56C9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C5E4-F46B-4E53-99D6-2F7237D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F3C-D761-4F78-8A79-75888BB0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001FB-8174-41C3-8B6B-373C7B650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