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8762"/>
        <c:axId val="55407514"/>
      </c:barChart>
      <c:catAx>
        <c:axId val="2098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07514"/>
        <c:crosses val="autoZero"/>
        <c:auto val="1"/>
        <c:lblAlgn val="ctr"/>
        <c:lblOffset val="100"/>
        <c:noMultiLvlLbl val="0"/>
      </c:catAx>
      <c:valAx>
        <c:axId val="55407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8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8C6-DE36-4EB3-A12E-7A7FE6B8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4E6-D4E8-4AB8-9E7D-2FBBE782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E45-C57C-48B7-8592-C61D3652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84C-2C68-4272-A788-F2856FF0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947-9569-470E-9B9B-78E06ED6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A8C-5110-460D-958A-F8611AD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03E-C90F-4550-B750-9C5CC86C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BF3-2EA8-441C-9442-D47C24C4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FC8-DE84-4918-9557-026F1F27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C54-3CD4-4984-A659-EE6ED6A1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3C7-325E-4D45-9800-55111259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04B-913D-4A03-B2E2-F3078EC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9CA6A-D41E-40C4-AE9D-34D09A43FB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